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4023-0146-4447-B9CD-D2FE3E71F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CA75-A899-442B-B5B4-11068BD2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539D-14A4-4D35-BFE6-2AF53AA30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5BE3-3FC5-4B99-B348-B44E4A0A3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CE75-1605-4C1B-9863-DE2F10B5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513B-2329-4D47-A06D-345A5744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383C-26A1-49E5-AA0B-834CF3A99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822E-59FC-4DD5-ADE3-EE97CB13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CC4F9-52D1-4F08-8B5C-9AE0AA23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C2C6-322F-4B36-AB8D-1C83BEED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63B-D763-42B7-86CE-4421ADAE1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5AE5-515D-420F-9697-E579F079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d"/>
            </a:gs>
            <a:gs pos="100000">
              <a:srgbClr val="00cc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1426-262C-403F-96C7-3BA92275BE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Соціально-освітні проек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"/>
          <p:cNvSpPr/>
          <p:nvPr/>
        </p:nvSpPr>
        <p:spPr>
          <a:xfrm>
            <a:off x="0" y="88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ранспортне забезпечення позашкільних навчальних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навчально-виховного процесу за дистанційною формою навч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є висвітлення заходів у межах проектів у ЗМІ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 algn="just">
              <a:lnSpc>
                <a:spcPct val="100000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 сайті ОЦПО та РТ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0" y="235728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"/>
          <p:cNvSpPr/>
          <p:nvPr/>
        </p:nvSpPr>
        <p:spPr>
          <a:xfrm>
            <a:off x="0" y="2880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нових соціально-освітніх проектів патріотичного спрямув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а впровадження педагогічних технологій організації навчально-творчої діяльності дітей та учнівської молоді у сфері вільного ча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407196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"/>
          <p:cNvSpPr/>
          <p:nvPr/>
        </p:nvSpPr>
        <p:spPr>
          <a:xfrm>
            <a:off x="0" y="46206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конкурсу на кращий проект з патріотичного виховання «Я –  українець і цим пишаюс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обласного військово-патріотичного табору «Патріо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компетентності педагогів ПНЗ щодо соціалізації особистості, її творчого розвитку, виховання патріотиз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76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права кожної дитини області на здобуття якісної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1857240" y="428616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Виховання лідерських якостей особистост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"/>
          <p:cNvSpPr/>
          <p:nvPr/>
        </p:nvSpPr>
        <p:spPr>
          <a:xfrm>
            <a:off x="0" y="805320"/>
            <a:ext cx="914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ного підходу до виховання юних лідерів як цілісного процес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4"/>
          <p:cNvSpPr/>
          <p:nvPr/>
        </p:nvSpPr>
        <p:spPr>
          <a:xfrm>
            <a:off x="0" y="42876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0" y="928800"/>
            <a:ext cx="9144000" cy="71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1448640"/>
            <a:ext cx="9144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демократичного та особистісно орієнтованого підходу щодо організації роботи органів учнівського самоврядування, активізація її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ховання лідерських якостей, активної життєвої позиції учнівської молоді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кращого досвіду роботи органів учнівського самоврядування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старшокласників до безпосередньої участі у формуванні та реалізації молодіжної політики в обла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вихованню демократичної культури підростаючого поколі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4"/>
          <p:cNvSpPr/>
          <p:nvPr/>
        </p:nvSpPr>
        <p:spPr>
          <a:xfrm>
            <a:off x="0" y="3357720"/>
            <a:ext cx="9144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"/>
          <p:cNvSpPr/>
          <p:nvPr/>
        </p:nvSpPr>
        <p:spPr>
          <a:xfrm>
            <a:off x="0" y="40510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діяльності обласної, районних і міських рад старшокласників Сумщи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і навчання лідерів учнівського самоврядування в „Школі лідера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роботи молодіжного самоврядування у ЗМІ, веб-сайтах ПНЗ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алізація поставлених завдань сприятиме розвитку в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ного і зрілого лідер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ичок соціального спілкування, взаємодії, співробітництв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аналізувати соціальні ситуації й виробляти оптимальні програми поведінки в н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міння взаємодіяти із суспільством та його окремими інститутами в повсякденному житті, орієнтуватися в суспільних явищах і процес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600" spc="-1" strike="noStrike">
                <a:solidFill>
                  <a:srgbClr val="0000c8"/>
                </a:solidFill>
                <a:latin typeface="Bookman Old Style"/>
              </a:rPr>
              <a:t>Програмне забезпеченн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"/>
          <p:cNvSpPr/>
          <p:nvPr/>
        </p:nvSpPr>
        <p:spPr>
          <a:xfrm>
            <a:off x="0" y="967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програм з позашкільної освіти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Безпідставне розроблення навчальних програм при наявності типов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відповідність мети, завдань програм їх змісту, очікуваним результат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своєчасність здійснення процедури перезатвердження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0" y="2643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"/>
          <p:cNvSpPr/>
          <p:nvPr/>
        </p:nvSpPr>
        <p:spPr>
          <a:xfrm>
            <a:off x="0" y="297756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існуючих, розроблення н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Експертиза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навчально-методичних збірників дидактичних матеріалів до навчальн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типових навчальних програм з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короткострокових навчальних-ознайомчих прогр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4929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0" y="54478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 регіонального банку даних навчальних програм з позашкільної осві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дання збірника навчальних програм з позашкільної освіти для застосування в ПНЗ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8"/>
          <p:cNvSpPr/>
          <p:nvPr/>
        </p:nvSpPr>
        <p:spPr>
          <a:xfrm>
            <a:off x="0" y="17604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c8"/>
                </a:solidFill>
                <a:latin typeface="Bookman Old Style"/>
              </a:rPr>
              <a:t>Підвищення фахової компетентності педагогі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0" y="5716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8568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виток позашкільних навчальних закладів як цілісних соціально-педагогічних сист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інноваційного розвитку системи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, узагальн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928880"/>
            <a:ext cx="91440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0" y="229212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чний супровід інноваційних процес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науково-методологічних, інформаційних інвестицій для реалізації програм розвитку закла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ідвищенню професійно-творчого рівня педагогі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загальносистемного розвитку позашкільної освіти в регіон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0" y="36432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0" y="4140720"/>
            <a:ext cx="9144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истематизація методичної і самоосвітньої діяль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методико-педагогічних заход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бота методичних об’єднань і творчих груп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методичної роботи ПНЗ регіону за напрямами П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виховного, розвивального та соціалізуючого потенціалу сучасного позашкільного навчального закл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ирення педагогічних ідей, науково-методичних, організаційно-педагогічних і методичних надбань педагогічних колективів ПН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матеріалів з актуальних науково-методичних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3519360"/>
            <a:ext cx="77724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«Концептуальн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засади діяльності </a:t>
            </a:r>
            <a:br>
              <a:rPr sz="4000"/>
            </a:b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позашкільних навчальних закладів</a:t>
            </a:r>
            <a:r>
              <a:rPr b="1" i="1" lang="en-US" sz="4000" spc="-1" strike="noStrike">
                <a:solidFill>
                  <a:srgbClr val="2d2d8a"/>
                </a:solidFill>
                <a:latin typeface="Bookman Old Style"/>
              </a:rPr>
              <a:t> </a:t>
            </a:r>
            <a:r>
              <a:rPr b="1" i="1" lang="uk-UA" sz="4000" spc="-1" strike="noStrike">
                <a:solidFill>
                  <a:srgbClr val="2d2d8a"/>
                </a:solidFill>
                <a:latin typeface="Bookman Old Style"/>
              </a:rPr>
              <a:t>у контексті сучасних умов»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0" descr=""/>
          <p:cNvPicPr/>
          <p:nvPr/>
        </p:nvPicPr>
        <p:blipFill>
          <a:blip r:embed="rId1"/>
          <a:stretch/>
        </p:blipFill>
        <p:spPr>
          <a:xfrm>
            <a:off x="324000" y="0"/>
            <a:ext cx="11620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0" y="21420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Гуманітарний, оздоро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"/>
          <p:cNvSpPr/>
          <p:nvPr/>
        </p:nvSpPr>
        <p:spPr>
          <a:xfrm>
            <a:off x="0" y="784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C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тан матеріально-технічного та методико-дидактичного забезпече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0360" indent="-2858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психолого-педагогічних знань батьків щодо виховання і розвитку дит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0" y="1571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6"/>
          <p:cNvSpPr/>
          <p:nvPr/>
        </p:nvSpPr>
        <p:spPr>
          <a:xfrm>
            <a:off x="0" y="1928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різноманітнення напрямів, форм і методів надання освітніх послуг дітям старшого дошкільного ві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патріотичної самосвідом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професійного рівня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силення психолого-педагогічної допомоги роди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1800" indent="-2793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батьків і спонсорських організацій до зміцнення матеріально-технічної та дидактичної ба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0" y="364320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0" y="450000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шкіл (студій, об’єдна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шкіл відповідального батьківства, родинних клубів, залучення до участі в освітньому проек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досвіду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глиблення психолого-педагогічних знань батьків, формування ціннісних орієнтацій сім’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 професійної  майстерності педагог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Еколого-натураліс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"/>
          <p:cNvSpPr/>
          <p:nvPr/>
        </p:nvSpPr>
        <p:spPr>
          <a:xfrm>
            <a:off x="0" y="86328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 діяльності гуртків екологічного, біологічного, аграрного профілів за трьома навчально-організаційними рівня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вищими навча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повідність методичних матеріалів педагогів вимогам положень про конкурсні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методико-педагогічні заход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0" y="27190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шук, розвиток форм соціального партнерства, співпраці з профільними закладами, науковими установ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5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вищення рівня професійно-творчої компетентності педагогів шляхом здійснення колективної та індивідуальної інновацій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"/>
          <p:cNvSpPr/>
          <p:nvPr/>
        </p:nvSpPr>
        <p:spPr>
          <a:xfrm>
            <a:off x="0" y="457056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Долучення до міжнародної освітньої програми </a:t>
            </a:r>
            <a:r>
              <a:rPr b="0" lang="en-US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GLOBE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, впровадження мультимедійного навчального комплексу «Зелений паке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часть педагогів у роботі профільних методичних об’єднань педагогів, семінарах, практикумах, вебінарах різних організаційних рівн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а участь у профільних міжнародних конкурс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25560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мережі конкурентноспроможних різнопрофільних ТУ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Художньо-естети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4"/>
          <p:cNvSpPr/>
          <p:nvPr/>
        </p:nvSpPr>
        <p:spPr>
          <a:xfrm>
            <a:off x="0" y="7142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системного підходу в організації навчально-виховного процес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урізноманітнення форм і методів діяльності творчих об’єднань, спрямованих на підвищення фахової компетентності вихованці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142920"/>
            <a:ext cx="914400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0" y="2143080"/>
            <a:ext cx="91440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"/>
          <p:cNvSpPr/>
          <p:nvPr/>
        </p:nvSpPr>
        <p:spPr>
          <a:xfrm>
            <a:off x="0" y="26654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дитячих творчих колективів у заходах районного, міського, обласного рівн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бір перспективного репертуару щодо формування національно-патріотичної свідомості дітей та учнівської молод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дійснення моніторингу діяльності гуртків і творчих об’єдна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392904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Прямоугольник 4"/>
          <p:cNvSpPr/>
          <p:nvPr/>
        </p:nvSpPr>
        <p:spPr>
          <a:xfrm>
            <a:off x="0" y="460368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езентація діяльності гуртків і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загальнення досвіду роботи керівників ТО – учасників обласного етапу Всеукраїнського конкурсу майстерності педагогічних працівників позашкільних навчальних закладів «Джерело творчості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сідання творчих груп педагогів за напрямами навчально-творч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0" y="35712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Фізкультурно-спортив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5"/>
          <p:cNvSpPr/>
          <p:nvPr/>
        </p:nvSpPr>
        <p:spPr>
          <a:xfrm>
            <a:off x="0" y="72396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спортивно-туристського напряму в позашкільних навчальних закладах деяких міст та районів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гнорування участі команд міст, районів у обласних туристсько-спортивних захо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умов для тренувань з туризму у зимовий період, а саме – обладнаної спеціалізованої спортивної за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робота щодо розроблення навчальних програм фізкультурно-спортив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0" y="27147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0" y="314676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роблення  навчальних програм фізкультурно-спортивного і військово-патріотичного напря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дальший розвиток похідної діяльн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0" y="421488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0" y="4691880"/>
            <a:ext cx="9144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штування спеціалізованих спортивних залів у базових навчальних заклад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навчально-тренувальних зборів і методико-педагогічних заходів у районах з метою активізації спортивно-туристської роботи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війти у десятку кращих у всеукраїнському рейтингу обласних позашкільних навчальних закладів України за спортивно-туристським напрямом позашкільної осві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8"/>
          <p:cNvSpPr/>
          <p:nvPr/>
        </p:nvSpPr>
        <p:spPr>
          <a:xfrm>
            <a:off x="0" y="7128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Науково-техніч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"/>
          <p:cNvSpPr/>
          <p:nvPr/>
        </p:nvSpPr>
        <p:spPr>
          <a:xfrm>
            <a:off x="0" y="89532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корочення кількості гуртків науково-технічного напряму, зокрема спортивно-технічного профіл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гуртків за науково-технічним напрямом у позашкільних навчальних закладах області, зокрема гуртків робототехніки, електроніки,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адрове забезпече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4"/>
          <p:cNvSpPr/>
          <p:nvPr/>
        </p:nvSpPr>
        <p:spPr>
          <a:xfrm>
            <a:off x="0" y="50004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178596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"/>
          <p:cNvSpPr/>
          <p:nvPr/>
        </p:nvSpPr>
        <p:spPr>
          <a:xfrm>
            <a:off x="0" y="2576880"/>
            <a:ext cx="9144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ереження мережі гуртків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нових напрямків гурткової роботи, зокрема робототехніка, електроніка та радіоконструю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2440" indent="-35244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ідготовка керівників гурткової роботи з числа колишніх вихованц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3929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"/>
          <p:cNvSpPr/>
          <p:nvPr/>
        </p:nvSpPr>
        <p:spPr>
          <a:xfrm>
            <a:off x="0" y="43498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та проведення профільних семінарів-практикум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творчих груп над проблемою «Шляхи вдосконалення роботи гуртків спортивно-технічних профіл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профільних майстер-клас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більшення кількості гуртків спортивно-технічного профілю науково-технічн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інформаційно-комунікативних технологі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рішення кадрових питань за рахунок залучення кваліфікованих спеціалістів-практиків до споріднених видів діяльност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0" y="71280"/>
            <a:ext cx="914400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Дослідницько-експерименталь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"/>
          <p:cNvSpPr/>
          <p:nvPr/>
        </p:nvSpPr>
        <p:spPr>
          <a:xfrm>
            <a:off x="0" y="579600"/>
            <a:ext cx="9144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ї форми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роботи в системі МАН  у В.-Писарівському, Буринському, Кролевецькому, Л.-Долинському, Сумському, Шосткинському, Ямпільському р-н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альний підхід до підготовки та проведення І етапу Всеукраїнського конкурсу-захисту науково-дослідницьких робіт учнів-член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0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ідсутність на всеукраїнському рівні Положення про наукові товариства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0" y="192888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"/>
          <p:cNvSpPr/>
          <p:nvPr/>
        </p:nvSpPr>
        <p:spPr>
          <a:xfrm>
            <a:off x="0" y="229536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лучення учнівської молоді із сільської місцевості до науково-дослідницької діяльності в системі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безпечення участі в обласних, всеукраїнських, міжнародних конкурсних заходах слухачів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дистанційного навч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Координація роботи наукових товариств учнів та міських малих академій нау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22860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едагогічне управління пошуково-дослідницькою діяльністю учн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"/>
          <p:cNvSpPr/>
          <p:nvPr/>
        </p:nvSpPr>
        <p:spPr>
          <a:xfrm>
            <a:off x="0" y="4299480"/>
            <a:ext cx="914400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творення соціального блоку в інтернет-мережі «ІnfoМАН.ua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ведення on-line лекцій молодими вченими, дійсними слухачами М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івпраця з громадською організацією “Асоціація випускників МАН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озширення форм організаційно-масов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рганізація роботи щодо формування в учнівської молоді інтересу до винахідницької, дослідницької, конструкторської діяльності, залучення старшокласників до навчання в секціях за науково-технічним напрям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провадження соціально-освітніх проектів «Відкрий таємниці минулого разом з археологією!», «У пошуках наукових скарбі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318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окращення рейтингових показникі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0" y="378612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0" y="71280"/>
            <a:ext cx="9144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c8"/>
                </a:solidFill>
                <a:latin typeface="Bookman Old Style"/>
              </a:rPr>
              <a:t>Соціально-реабілітаційн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"/>
          <p:cNvSpPr/>
          <p:nvPr/>
        </p:nvSpPr>
        <p:spPr>
          <a:xfrm>
            <a:off x="0" y="858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1" marL="457200" indent="-45720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23% комплексних позашкільних навчальних закладів області мають низький рівень результативності участі в обласних та всеукраїнських заходах за напрямом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й рівень залучення дітей та учнівської молоді до вивчення, відродження та популяризації регіональних народних ремесе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0" y="50004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2286000"/>
            <a:ext cx="91440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"/>
          <p:cNvSpPr/>
          <p:nvPr/>
        </p:nvSpPr>
        <p:spPr>
          <a:xfrm>
            <a:off x="0" y="271584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Формування системи професійно-творчої взаємодії та партнерства у профільному педагогічному соціумі обла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вчення та поширення перспективного педагогічного досві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птимізація системи методичної робо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9280" indent="-352440" algn="just">
              <a:lnSpc>
                <a:spcPct val="100000"/>
              </a:lnSpc>
              <a:buClr>
                <a:srgbClr val="0000c8"/>
              </a:buClr>
              <a:buFont typeface="Bookman Old Style"/>
              <a:buChar char="•"/>
              <a:tabLst>
                <a:tab algn="l" pos="44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рофільних навчальних метод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0" y="407196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4"/>
          <p:cNvSpPr/>
          <p:nvPr/>
        </p:nvSpPr>
        <p:spPr>
          <a:xfrm>
            <a:off x="0" y="450072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роботи обласного виїзного колегіуму творчих педагогів з декоративно-вжиткової творчості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Започаткування обласного 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ект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освітньо-мистецької вітальн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і</a:t>
            </a:r>
            <a:r>
              <a:rPr b="0" lang="ru-RU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 «Виток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світлення перспективного педагогічного досвіду на сайті закладу та в інформаційно-методичному збірнику «Позашкільна освіта Сумщини: регіональний аспект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Результативність участі вихованців області у заходах всеукраїнського рівня складає 100 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1857240" y="4500720"/>
            <a:ext cx="7286760" cy="20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0344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0" y="0"/>
            <a:ext cx="91440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c8"/>
                </a:solidFill>
                <a:latin typeface="Bookman Old Style"/>
              </a:rPr>
              <a:t>Туристсько-краєзнавчий напря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357120"/>
            <a:ext cx="914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ПРОБЛЕ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2"/>
          <p:cNvSpPr/>
          <p:nvPr/>
        </p:nvSpPr>
        <p:spPr>
          <a:xfrm>
            <a:off x="0" y="649440"/>
            <a:ext cx="914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я кількість гуртків військово-патріотичного спрямуванн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розвитку екскурсійної діяльності, походів, експедицій,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191880" algn="just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едостатність організаційних заходів щодо залучення дітей та молоді до вивчення історії козацтва та українських військових традиц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0" y="1785960"/>
            <a:ext cx="91440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ЗАВДАНН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0" y="2152440"/>
            <a:ext cx="9144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Активізація роботи щодо патріотичного виховання учнівської молоді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Сприяння подальшому розвитку краєзнавчої та пошуково-дослідницької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Удосконалення пошукової та просвітницької роботи музеїв навчальних закладів, пропаганда кращого досвіду їх робо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Пропаганда туристичних і екскурсійних можливостей рідного кра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Виявлення та поширення нових педагогічних технологій навчання і виховання учнів засобами туризму, краєзнавства та екскурсі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0" y="3643200"/>
            <a:ext cx="914400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00c8"/>
                </a:solidFill>
                <a:latin typeface="Bookman Old Style"/>
              </a:rPr>
              <a:t> </a:t>
            </a:r>
            <a:r>
              <a:rPr b="0" lang="uk-UA" sz="1800" spc="-1" strike="noStrike">
                <a:solidFill>
                  <a:srgbClr val="0000c8"/>
                </a:solidFill>
                <a:latin typeface="Bookman Old Style"/>
              </a:rPr>
              <a:t>ШЛЯХИ ВИРІШЕННЯ, ОЧІКУВАНИЙ РЕЗУЛЬТА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0" y="421812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е методичне об</a:t>
            </a:r>
            <a:r>
              <a:rPr b="0" lang="ru-RU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’</a:t>
            </a: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єднання керівників гуртків туристсько-краєзнавчого напрям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Навчально-виховні проекти «Стежками Слобожанського краю», «Шляхами подвигу і слави», «Музей іде до школ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их експедицій «Моя Батьківщина – Україна», «Історія міст і сіл України», «Мій рідний край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і етапи Всеукраїнського зльоту юних туристів-краєзнавців, дитячо-юнацької військово-патріотичної гри «Сокіл» («Джура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4680" indent="-274680">
              <a:lnSpc>
                <a:spcPct val="100000"/>
              </a:lnSpc>
              <a:buClr>
                <a:srgbClr val="0000c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c8"/>
                </a:solidFill>
                <a:latin typeface="Bookman Old Style"/>
                <a:ea typeface="Times New Roman"/>
              </a:rPr>
              <a:t>Обласна краєзнавча конференція «У світі краєзнавчих відкриттів», зліт пошукових загонів патріотичного спрямування «Памятати. Відродити. Зберегти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12:50:03Z</dcterms:created>
  <dc:creator>Center</dc:creator>
  <dc:description/>
  <dc:language>en-US</dc:language>
  <cp:lastModifiedBy>Galina</cp:lastModifiedBy>
  <dcterms:modified xsi:type="dcterms:W3CDTF">2014-10-10T05:25:37Z</dcterms:modified>
  <cp:revision>478</cp:revision>
  <dc:subject/>
  <dc:title>Слайд 1</dc:title>
</cp:coreProperties>
</file>