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2977-A835-43EE-BD3C-CF5DE0639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C375-FE1D-4D87-9B96-4219CD9A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A388-BC56-4603-9953-65C02ABE8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6EA0-EC8A-4863-B170-9E1F1A349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413D-DD29-4567-9FEA-526B7A82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6E6E-4A58-4D99-A9FF-97B77E6B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8811-A674-4925-A1CA-C1E7E8F6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706A-AF9D-420E-ADBF-7A37B8B1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2581-B207-48C2-BC7B-F2851143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4F6C-083D-4839-BDC1-C9F73086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7174-7874-41F7-8BC8-18343F1F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88B8-5C93-4B01-A389-40E593DE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d"/>
            </a:gs>
            <a:gs pos="100000">
              <a:srgbClr val="00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9045-49F1-49A8-9144-DA329C981B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351936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«Концептуальні </a:t>
            </a:r>
            <a:br>
              <a:rPr sz="4000"/>
            </a:b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засади діяльності </a:t>
            </a:r>
            <a:br>
              <a:rPr sz="4000"/>
            </a:b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позашкільних навчальних закладів</a:t>
            </a:r>
            <a:r>
              <a:rPr b="1" i="1" lang="en-US" sz="4000" spc="-1" strike="noStrike">
                <a:solidFill>
                  <a:srgbClr val="2d2d8a"/>
                </a:solidFill>
                <a:latin typeface="Bookman Old Style"/>
              </a:rPr>
              <a:t> </a:t>
            </a: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у контексті сучасних умов»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0" descr=""/>
          <p:cNvPicPr/>
          <p:nvPr/>
        </p:nvPicPr>
        <p:blipFill>
          <a:blip r:embed="rId1"/>
          <a:stretch/>
        </p:blipFill>
        <p:spPr>
          <a:xfrm>
            <a:off x="324000" y="0"/>
            <a:ext cx="1162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1857240" y="450072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Соціально-освітні проек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"/>
          <p:cNvSpPr/>
          <p:nvPr/>
        </p:nvSpPr>
        <p:spPr>
          <a:xfrm>
            <a:off x="0" y="88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7840" indent="-1778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Транспортне забезпечення позашкільних навчальних заклад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навчально-виховного процесу за дистанційною формою навч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є висвітлення заходів у межах проектів у ЗМІ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а сайті ОЦПО та РТ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5716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0" y="235728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"/>
          <p:cNvSpPr/>
          <p:nvPr/>
        </p:nvSpPr>
        <p:spPr>
          <a:xfrm>
            <a:off x="0" y="2880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роблення нових соціально-освітніх проектів патріотичного спряму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роблення та впровадження педагогічних технологій організації навчально-творчої діяльності дітей та учнівської молоді у сфері вільного ча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0" y="40719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"/>
          <p:cNvSpPr/>
          <p:nvPr/>
        </p:nvSpPr>
        <p:spPr>
          <a:xfrm>
            <a:off x="0" y="462060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4680" indent="-2746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початкування обласного конкурсу на кращий проект з патріотичного виховання «Я –  українець і цим пишаюс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роботи обласного військово-патріотичного табору «Патріо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ідвищення компетентності педагогів ПНЗ щодо соціалізації особистості, її творчого розвитку, виховання патріотиз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права кожної дитини області на здобуття якісної позашкільної осві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1857240" y="428616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Виховання лідерських якостей особист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"/>
          <p:cNvSpPr/>
          <p:nvPr/>
        </p:nvSpPr>
        <p:spPr>
          <a:xfrm>
            <a:off x="0" y="80532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Формування системного підходу до виховання юних лідерів як цілісного процес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428760"/>
            <a:ext cx="9144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0" y="928800"/>
            <a:ext cx="91440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0" y="1448640"/>
            <a:ext cx="9144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демократичного та особистісно орієнтованого підходу щодо організації роботи органів учнівського самоврядування, активізація її діяль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ховання лідерських якостей, активної життєвої позиції учнівської молоді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явлення та поширення кращого досвіду роботи органів учнівського самоврядування обла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лучення старшокласників до безпосередньої участі у формуванні та реалізації молодіжної політики в обла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прияння вихованню демократичної культури підростаючого поколі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0" y="335772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"/>
          <p:cNvSpPr/>
          <p:nvPr/>
        </p:nvSpPr>
        <p:spPr>
          <a:xfrm>
            <a:off x="0" y="4051080"/>
            <a:ext cx="9144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діяльності обласної, районних і міських рад старшокласників Сумщи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і навчання лідерів учнівського самоврядування в „Школі лідера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світлення роботи молодіжного самоврядування у ЗМІ, веб-сайтах ПН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еалізація поставлених завдань сприятиме розвитку в учнівської молод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Активного і зрілого лідер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авичок соціального спілкування, взаємодії, співробітниц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міння аналізувати соціальні ситуації й виробляти оптимальні програми поведінки в н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міння взаємодіяти із суспільством та його окремими інститутами в повсякденному житті, орієнтуватися в суспільних явищах і процес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c8"/>
                </a:solidFill>
                <a:latin typeface="Bookman Old Style"/>
              </a:rPr>
              <a:t>Програмне забезпечен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0" y="5716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"/>
          <p:cNvSpPr/>
          <p:nvPr/>
        </p:nvSpPr>
        <p:spPr>
          <a:xfrm>
            <a:off x="0" y="9676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я кількість програм з позашкільної освіти військово-патріотичного напря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Безпідставне розроблення навчальних програм при наявності типов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відповідність мети, завдань програм їх змісту, очікуваним результат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своєчасність здійснення процедури перезатвердження навчальних прог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264312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0" y="297756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досконалення існуючих, розроблення нових навчальних програм з позашкільної осві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Експертиза навчальних прог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ідготовка навчально-методичних збірників дидактичних матеріалів до навчальних прог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роблення типових навчальних програм з позашкільної осві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роблення короткострокових навчальних-ознайомчих прог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492912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"/>
          <p:cNvSpPr/>
          <p:nvPr/>
        </p:nvSpPr>
        <p:spPr>
          <a:xfrm>
            <a:off x="0" y="5447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творення  регіонального банку даних навчальних програм з позашкільної осві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дання збірника навчальних програм з позашкільної освіти для застосування в ПНЗ обла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1857240" y="450072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0" y="17604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c8"/>
                </a:solidFill>
                <a:latin typeface="Bookman Old Style"/>
              </a:rPr>
              <a:t>Підвищення фахової компетентності педагог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5716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856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виток позашкільних навчальних закладів як цілісних соціально-педагогічних сис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інноваційного розвитку системи позашкільної осві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явлення, узагальнення та поширення досвіду робо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1928880"/>
            <a:ext cx="9144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"/>
          <p:cNvSpPr/>
          <p:nvPr/>
        </p:nvSpPr>
        <p:spPr>
          <a:xfrm>
            <a:off x="0" y="229212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Методичний супровід інноваційних процес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науково-методологічних, інформаційних інвестицій для реалізації програм розвитку заклад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прияння підвищенню професійно-творчого рівня педагогі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загальносистемного розвитку позашкільної освіти в регіо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364320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"/>
          <p:cNvSpPr/>
          <p:nvPr/>
        </p:nvSpPr>
        <p:spPr>
          <a:xfrm>
            <a:off x="0" y="414072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истематизація методичної і самоосвітньої діяльності педагог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методико-педагогічних заход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бота методичних об’єднань і творчих груп педагог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Координація методичної роботи ПНЗ регіону за напрямами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птимізація виховного, розвивального та соціалізуючого потенціалу сучасного позашкільного навчального закла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оширення педагогічних ідей, науково-методичних, організаційно-педагогічних і методичних надбань педагогічних колективів ПН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загальнення матеріалів з актуальних науково-методичних проб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351936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«Концептуальні </a:t>
            </a:r>
            <a:br>
              <a:rPr sz="4000"/>
            </a:b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засади діяльності </a:t>
            </a:r>
            <a:br>
              <a:rPr sz="4000"/>
            </a:b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позашкільних навчальних закладів</a:t>
            </a:r>
            <a:r>
              <a:rPr b="1" i="1" lang="en-US" sz="4000" spc="-1" strike="noStrike">
                <a:solidFill>
                  <a:srgbClr val="2d2d8a"/>
                </a:solidFill>
                <a:latin typeface="Bookman Old Style"/>
              </a:rPr>
              <a:t> </a:t>
            </a: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у контексті сучасних умов»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0" descr=""/>
          <p:cNvPicPr/>
          <p:nvPr/>
        </p:nvPicPr>
        <p:blipFill>
          <a:blip r:embed="rId1"/>
          <a:stretch/>
        </p:blipFill>
        <p:spPr>
          <a:xfrm>
            <a:off x="324000" y="0"/>
            <a:ext cx="1162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21420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Гуманітарний, оздоровч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"/>
          <p:cNvSpPr/>
          <p:nvPr/>
        </p:nvSpPr>
        <p:spPr>
          <a:xfrm>
            <a:off x="0" y="784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0360" indent="-285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C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тан матеріально-технічного та методико-дидактичного забезпеч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285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ій рівень психолого-педагогічних знань батьків щодо виховання і розвитку дит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157176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6"/>
          <p:cNvSpPr/>
          <p:nvPr/>
        </p:nvSpPr>
        <p:spPr>
          <a:xfrm>
            <a:off x="0" y="192888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2793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різноманітнення напрямів, форм і методів надання освітніх послуг дітям старшого дошкільного ві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Формування патріотичної самосвідомості вихованц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ідвищення професійного рівня педагог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осилення психолого-педагогічної допомоги родин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лучення батьків і спонсорських організацій до зміцнення матеріально-технічної та дидактичної ба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0" y="3643200"/>
            <a:ext cx="9144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0" y="450000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ширення мережі шкіл (студій, об’єдна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шкіл відповідального батьківства, родинних клубів, залучення до участі в освітньому проек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вчення та поширення досвіду робо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оглиблення психолого-педагогічних знань батьків, формування ціннісних орієнтацій сім’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досконалення  професійної  майстерності педагог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7"/>
          <p:cNvSpPr/>
          <p:nvPr/>
        </p:nvSpPr>
        <p:spPr>
          <a:xfrm>
            <a:off x="1857240" y="450072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Еколого-натуралістичн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"/>
          <p:cNvSpPr/>
          <p:nvPr/>
        </p:nvSpPr>
        <p:spPr>
          <a:xfrm>
            <a:off x="0" y="86328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Кадрове забезпечення діяльності гуртків екологічного, біологічного, аграрного профілів за трьома навчально-організаційними рівн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півпраця з вищими навчальними закладами, науковими установ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ідповідність методичних матеріалів педагогів вимогам положень про конкурсні </a:t>
            </a:r>
            <a:r>
              <a:rPr b="0" lang="ru-RU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методико-педагогічні захо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0" y="35712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228600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"/>
          <p:cNvSpPr/>
          <p:nvPr/>
        </p:nvSpPr>
        <p:spPr>
          <a:xfrm>
            <a:off x="0" y="27190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ошук, розвиток форм соціального партнерства, співпраці з профільними закладами, науковими установ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ідвищення рівня професійно-творчої компетентності педагогів шляхом здійснення колективної та індивідуальної інноваційної діяль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378612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"/>
          <p:cNvSpPr/>
          <p:nvPr/>
        </p:nvSpPr>
        <p:spPr>
          <a:xfrm>
            <a:off x="0" y="45705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Долучення до міжнародної освітньої програми </a:t>
            </a:r>
            <a:r>
              <a:rPr b="0" lang="en-US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GLOBE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, впровадження мультимедійного навчального комплексу «Зелений паке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часть педагогів у роботі профільних методичних об’єднань педагогів, семінарах, практикумах, вебінарах різних організаційних рівн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езультативна участь у профільних міжнародних конкурс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ширення мережі конкурентноспроможних різнопрофільних ТУ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1857240" y="450072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Художньо-естетичн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4"/>
          <p:cNvSpPr/>
          <p:nvPr/>
        </p:nvSpPr>
        <p:spPr>
          <a:xfrm>
            <a:off x="0" y="71424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ість системного підходу в організації навчально-виховного проце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я робота щодо урізноманітнення форм і методів діяльності творчих об’єднань, спрямованих на підвищення фахової компетентності вихованц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142920"/>
            <a:ext cx="9144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0" y="2143080"/>
            <a:ext cx="9144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0" y="266544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участі дитячих творчих колективів у заходах районного, міського, обласного рівн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ідбір перспективного репертуару щодо формування національно-патріотичної свідомості дітей та учнівської моло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дійснення моніторингу діяльності гуртків і творчих об’єдн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392904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4"/>
          <p:cNvSpPr/>
          <p:nvPr/>
        </p:nvSpPr>
        <p:spPr>
          <a:xfrm>
            <a:off x="0" y="46036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резентація діяльності гуртків і 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загальнення досвіду роботи керівників ТО – учасників обласного етапу Всеукраїнського конкурсу майстерності педагогічних працівників позашкільних навчальних закладів «Джерело творчості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сідання творчих груп педагогів за напрямами навчально-творчої діяль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0" y="35712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Фізкультурно-спортивн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7239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ідсутність гуртків спортивно-туристського напряму в позашкільних навчальних закладах деяких міст та районів обла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Ігнорування участі команд міст, районів у обласних туристсько-спортивних захо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ідсутність умов для тренувань з туризму у зимовий період, а саме – обладнаної спеціалізованої спортивної з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я робота щодо розроблення навчальних програм фізкультурно-спортивного напря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0" y="271476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31467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роблення  навчальних програм фізкультурно-спортивного і військово-патріотичного напря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одальший розвиток похідної діяль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0" y="42148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0" y="469188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блаштування спеціалізованих спортивних залів у базових навчальних закла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роведення навчально-тренувальних зборів і методико-педагогічних заходів у районах з метою активізації спортивно-туристської роботи</a:t>
            </a:r>
            <a:r>
              <a:rPr b="0" lang="ru-RU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війти у десятку кращих у всеукраїнському рейтингу обласних позашкільних навчальних закладів України за спортивно-туристським напрямом позашкільної осві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8"/>
          <p:cNvSpPr/>
          <p:nvPr/>
        </p:nvSpPr>
        <p:spPr>
          <a:xfrm>
            <a:off x="0" y="7128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Науково-технічн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"/>
          <p:cNvSpPr/>
          <p:nvPr/>
        </p:nvSpPr>
        <p:spPr>
          <a:xfrm>
            <a:off x="0" y="895320"/>
            <a:ext cx="914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корочення кількості гуртків науково-технічного напряму, зокрема спортивно-технічного профіл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ідсутність гуртків за науково-технічним напрямом у позашкільних навчальних закладах області, зокрема гуртків робототехніки, електроніки, радіоконструюв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Кадрове забезпече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50004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0" y="178596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"/>
          <p:cNvSpPr/>
          <p:nvPr/>
        </p:nvSpPr>
        <p:spPr>
          <a:xfrm>
            <a:off x="0" y="257688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береження мережі гуртків науково-технічного напря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провадження нових напрямків гурткової роботи, зокрема робототехніка, електроніка та радіоконструюв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ідготовка керівників гурткової роботи з числа колишніх вихованц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0" y="392904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"/>
          <p:cNvSpPr/>
          <p:nvPr/>
        </p:nvSpPr>
        <p:spPr>
          <a:xfrm>
            <a:off x="0" y="4349880"/>
            <a:ext cx="914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та проведення профільних семінарів-практикум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роботи творчих груп над проблемою «Шляхи вдосконалення роботи гуртків спортивно-технічних профілі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профільних майстер-клас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більшення кількості гуртків спортивно-технічного профілю науково-технічного напря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провадження інформаційно-комунікативних технологі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рішення кадрових питань за рахунок залучення кваліфікованих спеціалістів-практиків до споріднених видів діяль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0" y="71280"/>
            <a:ext cx="9144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0" y="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Дослідницько-експериментальн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"/>
          <p:cNvSpPr/>
          <p:nvPr/>
        </p:nvSpPr>
        <p:spPr>
          <a:xfrm>
            <a:off x="0" y="57960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90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провадження дистанційної форми навч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190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ідсутність роботи в системі МАН  у В.-Писарівському, Буринському, Кролевецькому, Л.-Долинському, Сумському, Шосткинському, Ямпільському р-н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190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Формальний підхід до підготовки та проведення І етапу Всеукраїнського конкурсу-захисту науково-дослідницьких робіт учнів-членів М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190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ідсутність на всеукраїнському рівні Положення про наукові товариства учн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0" y="192888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"/>
          <p:cNvSpPr/>
          <p:nvPr/>
        </p:nvSpPr>
        <p:spPr>
          <a:xfrm>
            <a:off x="0" y="2295360"/>
            <a:ext cx="9144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2860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лучення учнівської молоді із сільської місцевості до науково-дослідницької діяльності в системі М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22860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участі в обласних, всеукраїнських, міжнародних конкурсних заходах слухачів М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22860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провадження дистанційного навч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22860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Координація роботи наукових товариств учнів та міських малих академій нау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2860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едагогічне управління пошуково-дослідницькою діяльністю учн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0" y="4299480"/>
            <a:ext cx="9144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творення соціального блоку в інтернет-мережі «ІnfoМАН.ua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роведення on-line лекцій молодими вченими, дійсними слухачами М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півпраця з громадською організацією “Асоціація випускників МАН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ширення форм організаційно-масової робо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роботи щодо формування в учнівської молоді інтересу до винахідницької, дослідницької, конструкторської діяльності, залучення старшокласників до навчання в секціях за науково-технічним напрям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провадження соціально-освітніх проектів «Відкрий таємниці минулого разом з археологією!», «У пошуках наукових скарбі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окращення рейтингових показник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378612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1857240" y="450072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c8"/>
                </a:solidFill>
                <a:latin typeface="Bookman Old Style"/>
              </a:rPr>
              <a:t>Соціально-реабілітаційн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"/>
          <p:cNvSpPr/>
          <p:nvPr/>
        </p:nvSpPr>
        <p:spPr>
          <a:xfrm>
            <a:off x="0" y="858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indent="-45720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23% комплексних позашкільних навчальних закладів області мають низький рівень результативності участі в обласних та всеукраїнських заходах за напрямом декоративно-вжиткової творч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ій рівень залучення дітей та учнівської молоді до вивчення, відродження та популяризації регіональних народних ремес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50004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0" y="228600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"/>
          <p:cNvSpPr/>
          <p:nvPr/>
        </p:nvSpPr>
        <p:spPr>
          <a:xfrm>
            <a:off x="0" y="271584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928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Формування системи професійно-творчої взаємодії та партнерства у профільному педагогічному соціумі обла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вчення та поширення перспективного педагогічного досві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птимізація системи методичної робо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досконалення профільних навчальних метод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407196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4"/>
          <p:cNvSpPr/>
          <p:nvPr/>
        </p:nvSpPr>
        <p:spPr>
          <a:xfrm>
            <a:off x="0" y="45007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початкування роботи обласного виїзного колегіуму творчих педагогів з декоративно-вжиткової творч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початкування обласного </a:t>
            </a:r>
            <a:r>
              <a:rPr b="0" lang="ru-RU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роект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</a:t>
            </a:r>
            <a:r>
              <a:rPr b="0" lang="ru-RU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 освітньо-мистецької вітальн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і</a:t>
            </a:r>
            <a:r>
              <a:rPr b="0" lang="ru-RU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 «Вито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світлення перспективного педагогічного досвіду на сайті закладу та в інформаційно-методичному збірнику «Позашкільна освіта Сумщини: регіональний аспек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езультативність участі вихованців області у заходах всеукраїнського рівня складає 10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1857240" y="450072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0" y="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Туристсько-краєзнавч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35712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0" y="649440"/>
            <a:ext cx="914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91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я кількість гуртків військово-патріотичного спрямув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191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ість організаційних заходів щодо розвитку екскурсійної діяльності, походів, експедицій, екскурсі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191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ість організаційних заходів щодо залучення дітей та молоді до вивчення історії козацтва та українських військових традиці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0" y="178596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0" y="2152440"/>
            <a:ext cx="9144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Активізація роботи щодо патріотичного виховання учнівської молод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прияння подальшому розвитку краєзнавчої та пошуково-дослідницької робо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досконалення пошукової та просвітницької роботи музеїв навчальних закладів, пропаганда кращого досвіду їх робо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ропаганда туристичних і екскурсійних можливостей рідного кра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явлення та поширення нових педагогічних технологій навчання і виховання учнів засобами туризму, краєзнавства та екскурсі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0" y="364320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4"/>
          <p:cNvSpPr/>
          <p:nvPr/>
        </p:nvSpPr>
        <p:spPr>
          <a:xfrm>
            <a:off x="0" y="4218120"/>
            <a:ext cx="914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бласне методичне об</a:t>
            </a:r>
            <a:r>
              <a:rPr b="0" lang="ru-RU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’</a:t>
            </a: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єднання керівників гуртків туристсько-краєзнавчого напря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авчально-виховні проекти «Стежками Слобожанського краю», «Шляхами подвигу і слави», «Музей іде до школ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бласні етапи всеукраїнських експедицій «Моя Батьківщина – Україна», «Історія міст і сіл України», «Мій рідний кра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бласні етапи Всеукраїнського зльоту юних туристів-краєзнавців, дитячо-юнацької військово-патріотичної гри «Сокіл» («Джура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бласна краєзнавча конференція «У світі краєзнавчих відкриттів», зліт пошукових загонів патріотичного спрямування «Памятати. Відродити. Зберег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12:50:03Z</dcterms:created>
  <dc:creator>Center</dc:creator>
  <dc:description/>
  <dc:language>en-US</dc:language>
  <cp:lastModifiedBy>Galina</cp:lastModifiedBy>
  <dcterms:modified xsi:type="dcterms:W3CDTF">2014-10-10T05:25:37Z</dcterms:modified>
  <cp:revision>478</cp:revision>
  <dc:subject/>
  <dc:title>Слайд 1</dc:title>
</cp:coreProperties>
</file>