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CABE-EECD-4678-98D9-EEC98B19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8A2A-DF41-40B2-AE64-171F6087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63DE-5845-4565-853B-48326E6A8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F6A3-9A68-498C-A589-E77BE49D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05D2-C33B-49FE-9CB1-CC440AAD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EDF6-8103-4198-8D51-5D77D40E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DA5C-EF91-4B61-83A7-8704C04F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1E89-C151-41F4-A96E-BEF4EC0D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9A2A-1401-433D-A2E5-DA29F16F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8592-436B-4617-AE39-425A8657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FA75-1227-4D31-AFEF-ADA7371B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58B0-2CF4-43A0-98CB-A07A3175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d"/>
            </a:gs>
            <a:gs pos="100000">
              <a:srgbClr val="00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98E3-FE3F-4562-8C87-6B9EA5F46F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351936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«Концептуальні </a:t>
            </a:r>
            <a:br>
              <a:rPr sz="4000"/>
            </a:b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засади діяльності </a:t>
            </a:r>
            <a:br>
              <a:rPr sz="4000"/>
            </a:b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позашкільних навчальних закладів</a:t>
            </a:r>
            <a:r>
              <a:rPr b="1" i="1" lang="en-US" sz="4000" spc="-1" strike="noStrike">
                <a:solidFill>
                  <a:srgbClr val="2d2d8a"/>
                </a:solidFill>
                <a:latin typeface="Bookman Old Style"/>
              </a:rPr>
              <a:t> </a:t>
            </a: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у контексті сучасних умов»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0" descr=""/>
          <p:cNvPicPr/>
          <p:nvPr/>
        </p:nvPicPr>
        <p:blipFill>
          <a:blip r:embed="rId1"/>
          <a:stretch/>
        </p:blipFill>
        <p:spPr>
          <a:xfrm>
            <a:off x="324000" y="0"/>
            <a:ext cx="116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Соціально-освітні проек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0" y="88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7840" indent="-1778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Транспортне забезпечення позашкільних навчальних заклад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навчально-виховного процесу за дистанційною формою навч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є висвітлення заходів у межах проектів у ЗМІ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а сайті ОЦПО та РТ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571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235728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0" y="2880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нових соціально-освітніх проектів патріотичного спрям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та впровадження педагогічних технологій організації навчально-творчої діяльності дітей та учнівської молоді у сфері вільного ча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40719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0" y="462060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4680" indent="-2746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початкування обласного конкурсу на кращий проект з патріотичного виховання «Я –  українець і цим пишаюс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роботи обласного військово-патріотичного табору «Патріо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вищення компетентності педагогів ПНЗ щодо соціалізації особистості, її творчого розвитку, виховання патріотиз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права кожної дитини області на здобуття якісної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1857240" y="428616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Виховання лідерських якостей особист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0" y="8053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Формування системного підходу до виховання юних лідерів як цілісного проце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428760"/>
            <a:ext cx="914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0" y="928800"/>
            <a:ext cx="9144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0" y="1448640"/>
            <a:ext cx="9144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демократичного та особистісно орієнтованого підходу щодо організації роботи органів учнівського самоврядування, активізація її діяль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ховання лідерських якостей, активної життєвої позиції учнівської молоді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явлення та поширення кращого досвіду роботи органів учнівського самоврядування обла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лучення старшокласників до безпосередньої участі у формуванні та реалізації молодіжної політики в обла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рияння вихованню демократичної культури підростаючого поколі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335772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0" y="4051080"/>
            <a:ext cx="9144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діяльності обласної, районних і міських рад старшокласників Сумщи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і навчання лідерів учнівського самоврядування в „Школі лідера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світлення роботи молодіжного самоврядування у ЗМІ, веб-сайтах ПН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еалізація поставлених завдань сприятиме розвитку в учнівської молод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Активного і зрілого лідер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авичок соціального спілкування, взаємодії, співробітниц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міння аналізувати соціальні ситуації й виробляти оптимальні програми поведінки в 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міння взаємодіяти із суспільством та його окремими інститутами в повсякденному житті, орієнтуватися в суспільних явищах і процес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c8"/>
                </a:solidFill>
                <a:latin typeface="Bookman Old Style"/>
              </a:rPr>
              <a:t>Програмне забезпече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571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0" y="967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я кількість програм з позашкільної освіти військово-патріотичного напря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Безпідставне розроблення навчальних програм при наявності типов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відповідність мети, завдань програм їх змісту, очікуваним результа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своєчасність здійснення процедури перезатвердження навчальних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264312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0" y="297756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досконалення існуючих, розроблення нових навчальних програм з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Експертиза навчальних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готовка навчально-методичних збірників дидактичних матеріалів до навчальних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типових навчальних програм з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короткострокових навчальних-ознайомчих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492912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0" y="5447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творення  регіонального банку даних навчальних програм з позашкільної осві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дання збірника навчальних програм з позашкільної освіти для застосування в ПНЗ обла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0" y="17604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c8"/>
                </a:solidFill>
                <a:latin typeface="Bookman Old Style"/>
              </a:rPr>
              <a:t>Підвищення фахової компетентності педагог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571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856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виток позашкільних навчальних закладів як цілісних соціально-педагогічних 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інноваційного розвитку системи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явлення, узагальнення та поширення досвіду робо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1928880"/>
            <a:ext cx="914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0" y="229212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Методичний супровід інноваційних процес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науково-методологічних, інформаційних інвестицій для реалізації програм розвитку заклад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рияння підвищенню професійно-творчого рівня педагог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загальносистемного розвитку позашкільної освіти в регіо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364320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0" y="41407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истематизація методичної і самоосвітньої діяльності педагог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методико-педагогічних заход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бота методичних об’єднань і творчих груп педагог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Координація методичної роботи ПНЗ регіону за напрямами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птимізація виховного, розвивального та соціалізуючого потенціалу сучасного позашкільного навчального закл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ширення педагогічних ідей, науково-методичних, організаційно-педагогічних і методичних надбань педагогічних колективів ПН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загальнення матеріалів з актуальних науково-методичних проб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351936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«Концептуальні </a:t>
            </a:r>
            <a:br>
              <a:rPr sz="4000"/>
            </a:b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засади діяльності </a:t>
            </a:r>
            <a:br>
              <a:rPr sz="4000"/>
            </a:b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позашкільних навчальних закладів</a:t>
            </a:r>
            <a:r>
              <a:rPr b="1" i="1" lang="en-US" sz="4000" spc="-1" strike="noStrike">
                <a:solidFill>
                  <a:srgbClr val="2d2d8a"/>
                </a:solidFill>
                <a:latin typeface="Bookman Old Style"/>
              </a:rPr>
              <a:t> </a:t>
            </a: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у контексті сучасних умов»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0" descr=""/>
          <p:cNvPicPr/>
          <p:nvPr/>
        </p:nvPicPr>
        <p:blipFill>
          <a:blip r:embed="rId1"/>
          <a:stretch/>
        </p:blipFill>
        <p:spPr>
          <a:xfrm>
            <a:off x="324000" y="0"/>
            <a:ext cx="116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21420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Гуманітарний, оздоровч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"/>
          <p:cNvSpPr/>
          <p:nvPr/>
        </p:nvSpPr>
        <p:spPr>
          <a:xfrm>
            <a:off x="0" y="784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0360" indent="-285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C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тан матеріально-технічного та методико-дидактичного забезпеч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285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й рівень психолого-педагогічних знань батьків щодо виховання і розвитку дит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157176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0" y="192888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різноманітнення напрямів, форм і методів надання освітніх послуг дітям старшого дошкільного ві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Формування патріотичної самосвідомості вихованц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вищення професійного рівня педагог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силення психолого-педагогічної допомоги роди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лучення батьків і спонсорських організацій до зміцнення матеріально-технічної та дидактичної ба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3643200"/>
            <a:ext cx="9144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0" y="450000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ширення мережі шкіл (студій, об’єдна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шкіл відповідального батьківства, родинних клубів, залучення до участі в освітньому проек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вчення та поширення досвіду робо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глиблення психолого-педагогічних знань батьків, формування ціннісних орієнтацій сім’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досконалення  професійної  майстерності педагог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Еколого-натуралістич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0" y="8632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Кадрове забезпечення діяльності гуртків екологічного, біологічного, аграрного профілів за трьома навчально-організаційними рівн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івпраця з вищими навчальними закладами, науковими устано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повідність методичних матеріалів педагогів вимогам положень про конкурсні 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методико-педагогічні зах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0" y="35712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228600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"/>
          <p:cNvSpPr/>
          <p:nvPr/>
        </p:nvSpPr>
        <p:spPr>
          <a:xfrm>
            <a:off x="0" y="2719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шук, розвиток форм соціального партнерства, співпраці з профільними закладами, науковими устано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вищення рівня професійно-творчої компетентності педагогів шляхом здійснення колективної та індивідуальної інноваційної діяль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378612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"/>
          <p:cNvSpPr/>
          <p:nvPr/>
        </p:nvSpPr>
        <p:spPr>
          <a:xfrm>
            <a:off x="0" y="45705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Долучення до міжнародної освітньої програми </a:t>
            </a:r>
            <a:r>
              <a:rPr b="0" lang="en-US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GLOBE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, впровадження мультимедійного навчального комплексу «Зелений пак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часть педагогів у роботі профільних методичних об’єднань педагогів, семінарах, практикумах, вебінарах різних організаційних рівн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езультативна участь у профільних міжнародних конкур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ширення мережі конкурентноспроможних різнопрофільних ТУ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Художньо-естетич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0" y="7142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сть системного підходу в організації навчально-виховного проце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я робота щодо урізноманітнення форм і методів діяльності творчих об’єднань, спрямованих на підвищення фахової компетентності вихованц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142920"/>
            <a:ext cx="9144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2143080"/>
            <a:ext cx="9144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0" y="26654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участі дитячих творчих колективів у заходах районного, міського, обласного рівн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бір перспективного репертуару щодо формування національно-патріотичної свідомості дітей та учнівської моло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дійснення моніторингу діяльності гуртків і творчих об’єдн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392904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0" y="4603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езентація діяльності гуртків і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загальнення досвіду роботи керівників ТО – учасників обласного етапу Всеукраїнського конкурсу майстерності педагогічних працівників позашкільних навчальних закладів «Джерело творчості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сідання творчих груп педагогів за напрямами навчально-творчої діяль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0" y="35712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Фізкультурно-спортив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7239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гуртків спортивно-туристського напряму в позашкільних навчальних закладах деяких міст та районів обла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Ігнорування участі команд міст, районів у обласних туристсько-спортивних захо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умов для тренувань з туризму у зимовий період, а саме – обладнаної спеціалізованої спортивної з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я робота щодо розроблення навчальних програм фізкультурно-спортивного напря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271476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31467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 навчальних програм фізкультурно-спортивного і військово-патріотичного напря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дальший розвиток похідної діяль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42148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469188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штування спеціалізованих спортивних залів у базових навчальних закла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оведення навчально-тренувальних зборів і методико-педагогічних заходів у районах з метою активізації спортивно-туристської роботи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війти у десятку кращих у всеукраїнському рейтингу обласних позашкільних навчальних закладів України за спортивно-туристським напрямом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0" y="7128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Науково-техніч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"/>
          <p:cNvSpPr/>
          <p:nvPr/>
        </p:nvSpPr>
        <p:spPr>
          <a:xfrm>
            <a:off x="0" y="895320"/>
            <a:ext cx="91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корочення кількості гуртків науково-технічного напряму, зокрема спортивно-технічного профіл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гуртків за науково-технічним напрямом у позашкільних навчальних закладах області, зокрема гуртків робототехніки, електроніки, радіоконструю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Кадрове забезпеч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50004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0" y="178596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"/>
          <p:cNvSpPr/>
          <p:nvPr/>
        </p:nvSpPr>
        <p:spPr>
          <a:xfrm>
            <a:off x="0" y="257688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береження мережі гуртків науково-технічного напря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нових напрямків гурткової роботи, зокрема робототехніка, електроніка та радіоконструю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готовка керівників гурткової роботи з числа колишніх вихованц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392904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"/>
          <p:cNvSpPr/>
          <p:nvPr/>
        </p:nvSpPr>
        <p:spPr>
          <a:xfrm>
            <a:off x="0" y="4349880"/>
            <a:ext cx="914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та проведення профільних семінарів-практикум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роботи творчих груп над проблемою «Шляхи вдосконалення роботи гуртків спортивно-технічних профілі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профільних майстер-клас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більшення кількості гуртків спортивно-технічного профілю науково-технічного напря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інформаційно-комунікативних технологі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рішення кадрових питань за рахунок залучення кваліфікованих спеціалістів-практиків до споріднених видів діяль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Дослідницько-експерименталь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"/>
          <p:cNvSpPr/>
          <p:nvPr/>
        </p:nvSpPr>
        <p:spPr>
          <a:xfrm>
            <a:off x="0" y="57960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90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дистанційної форми навч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0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роботи в системі МАН  у В.-Писарівському, Буринському, Кролевецькому, Л.-Долинському, Сумському, Шосткинському, Ямпільському р-н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0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Формальний підхід до підготовки та проведення І етапу Всеукраїнського конкурсу-захисту науково-дослідницьких робіт учнів-членів 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0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на всеукраїнському рівні Положення про наукові товариства учн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192888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0" y="2295360"/>
            <a:ext cx="9144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лучення учнівської молоді із сільської місцевості до науково-дослідницької діяльності в системі 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участі в обласних, всеукраїнських, міжнародних конкурсних заходах слухачів 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дистанційного навч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Координація роботи наукових товариств учнів та міських малих академій нау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едагогічне управління пошуково-дослідницькою діяльністю учн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0" y="4299480"/>
            <a:ext cx="9144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творення соціального блоку в інтернет-мережі «ІnfoМАН.ua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оведення on-line лекцій молодими вченими, дійсними слухачами 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івпраця з громадською організацією “Асоціація випускників МАН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ширення форм організаційно-масової робо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роботи щодо формування в учнівської молоді інтересу до винахідницької, дослідницької, конструкторської діяльності, залучення старшокласників до навчання в секціях за науково-технічним напрям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соціально-освітніх проектів «Відкрий таємниці минулого разом з археологією!», «У пошуках наукових скарбі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кращення рейтингових показник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378612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c8"/>
                </a:solidFill>
                <a:latin typeface="Bookman Old Style"/>
              </a:rPr>
              <a:t>Соціально-реабілітацій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"/>
          <p:cNvSpPr/>
          <p:nvPr/>
        </p:nvSpPr>
        <p:spPr>
          <a:xfrm>
            <a:off x="0" y="858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indent="-45720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23% комплексних позашкільних навчальних закладів області мають низький рівень результативності участі в обласних та всеукраїнських заходах за напрямом декоративно-вжиткової творч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й рівень залучення дітей та учнівської молоді до вивчення, відродження та популяризації регіональних народних ремес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50004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228600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0" y="27158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928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Формування системи професійно-творчої взаємодії та партнерства у профільному педагогічному соціумі обла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вчення та поширення перспективного педагогічного досві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птимізація системи методичної робо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досконалення профільних навчальних метод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407196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0" y="45007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початкування роботи обласного виїзного колегіуму творчих педагогів з декоративно-вжиткової творч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початкування обласного 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оект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 освітньо-мистецької вітальн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і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 «Вито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світлення перспективного педагогічного досвіду на сайті закладу та в інформаційно-методичному збірнику «Позашкільна освіта Сумщини: регіональний аспек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езультативність участі вихованців області у заходах всеукраїнського рівня складає 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0" y="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Туристсько-краєзнавч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35712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649440"/>
            <a:ext cx="91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91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я кількість гуртків військово-патріотичного спряму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1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сть організаційних заходів щодо розвитку екскурсійної діяльності, походів, експедицій, екскурс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1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сть організаційних заходів щодо залучення дітей та молоді до вивчення історії козацтва та українських військових традиц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178596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0" y="2152440"/>
            <a:ext cx="9144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Активізація роботи щодо патріотичного виховання учнівської молод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рияння подальшому розвитку краєзнавчої та пошуково-дослідницької робо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досконалення пошукової та просвітницької роботи музеїв навчальних закладів, пропаганда кращого досвіду їх робо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опаганда туристичних і екскурсійних можливостей рідного кра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явлення та поширення нових педагогічних технологій навчання і виховання учнів засобами туризму, краєзнавства та екскурс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364320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0" y="4218120"/>
            <a:ext cx="914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сне методичне об</a:t>
            </a:r>
            <a:r>
              <a:rPr b="0" lang="ru-RU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’</a:t>
            </a: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єднання керівників гуртків туристсько-краєзнавчого напря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авчально-виховні проекти «Стежками Слобожанського краю», «Шляхами подвигу і слави», «Музей іде до школ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сні етапи всеукраїнських експедицій «Моя Батьківщина – Україна», «Історія міст і сіл України», «Мій рідний кра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сні етапи Всеукраїнського зльоту юних туристів-краєзнавців, дитячо-юнацької військово-патріотичної гри «Сокіл» («Джура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сна краєзнавча конференція «У світі краєзнавчих відкриттів», зліт пошукових загонів патріотичного спрямування «Памятати. Відродити. Зберег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12:50:03Z</dcterms:created>
  <dc:creator>Center</dc:creator>
  <dc:description/>
  <dc:language>en-US</dc:language>
  <cp:lastModifiedBy>Galina</cp:lastModifiedBy>
  <dcterms:modified xsi:type="dcterms:W3CDTF">2014-10-10T05:25:37Z</dcterms:modified>
  <cp:revision>478</cp:revision>
  <dc:subject/>
  <dc:title>Слайд 1</dc:title>
</cp:coreProperties>
</file>